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F95D7-6868-4D06-989F-F08AC75CC4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4E35-963B-46E5-8AEA-5365609D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5F1FBC-7D55-4A38-BA0D-FF51C6ECA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F785E4-1E47-46A1-85EC-E76B0FBA4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3C9646-7B4F-4BB3-87EA-D1B522F4A9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650D71-60A3-40E7-82EA-32560F8A4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46BFE5-9592-44B3-8B36-BF29880BA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60CE3-207F-446F-B4D0-D2D61483D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49E5C6-30F6-4C26-BB66-0D9C313A2D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1B6CE8-AC56-4FBA-A3D1-D921671D1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42308-961F-4331-945C-366E01B0A0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36187E-11DE-440C-86EF-0540CECD6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9F5795-D9AF-4848-8B5A-6CF304321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7875E8-BB97-488A-8332-0A6C064A2B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F5B1D9-2E85-4298-99EE-95967B4E3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0E849C-3707-413A-B33C-9CFE2332B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FFB5FF-649C-4955-9F8C-2972B888F6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F35F9-6F70-47AC-8B73-87D844AE9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ED2B6-1757-4F32-BDAE-EAA1F11D60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789F8-14D6-4299-AA21-C418D995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9FE90-81AF-4D37-B78C-F462DB56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E3125-CF1B-4DDA-866C-492772539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B82D0-B7BB-414C-9E2F-1EE04CC44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5B64E-EE60-4B0F-A155-6D09A63600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fontScale="99000"/>
          </a:bodyPr>
          <a:p>
            <a:pPr marL="339480" indent="-3394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A1A02-96F2-4FDC-9693-BFDA17198E2B}"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7527-BE85-42E4-8685-D5422060A864}" type="slidenum">
              <a:rPr b="0" lang="en-US" sz="1400" spc="-1" strike="noStrike">
                <a:solidFill>
                  <a:srgbClr val="ffffff"/>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rst Wave</a:t>
            </a:r>
            <a:endParaRPr b="0" lang="en-US" sz="4400" spc="-1" strike="noStrike">
              <a:solidFill>
                <a:srgbClr val="ffffff"/>
              </a:solidFill>
              <a:latin typeface="Tahoma"/>
            </a:endParaRPr>
          </a:p>
        </p:txBody>
      </p:sp>
      <p:sp>
        <p:nvSpPr>
          <p:cNvPr id="83" name="PlaceHolder 2"/>
          <p:cNvSpPr>
            <a:spLocks noGrp="1"/>
          </p:cNvSpPr>
          <p:nvPr>
            <p:ph type="subTitle"/>
          </p:nvPr>
        </p:nvSpPr>
        <p:spPr>
          <a:xfrm>
            <a:off x="1371600" y="3886200"/>
            <a:ext cx="6400800" cy="175248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ristopher Landrum</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8th perio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5" name="PlaceHolder 2"/>
          <p:cNvSpPr>
            <a:spLocks noGrp="1"/>
          </p:cNvSpPr>
          <p:nvPr>
            <p:ph/>
          </p:nvPr>
        </p:nvSpPr>
        <p:spPr>
          <a:xfrm>
            <a:off x="685800" y="1981080"/>
            <a:ext cx="7772400" cy="4114800"/>
          </a:xfrm>
          <a:prstGeom prst="rect">
            <a:avLst/>
          </a:prstGeom>
          <a:noFill/>
          <a:ln w="0">
            <a:noFill/>
          </a:ln>
          <a:effectLst>
            <a:outerShdw dist="0" dir="0" blurRad="0" rotWithShape="0">
              <a:srgbClr val="808080">
                <a:alpha val="75000"/>
              </a:srgbClr>
            </a:outerShdw>
          </a:effectLst>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aldives and Kiribaki highlight a hidden challenge for coping with climate change. It’s not just about slowing the emissions of greenhouse gases. It’s also about figuring out what to do for localities threatened with the possibility of extinction from rising ocean wat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533520"/>
            <a:ext cx="7772400" cy="1295280"/>
          </a:xfrm>
          <a:prstGeom prst="rect">
            <a:avLst/>
          </a:prstGeom>
          <a:noFill/>
          <a:ln w="0">
            <a:noFill/>
          </a:ln>
          <a:effectLst>
            <a:outerShdw dist="0" dir="0" blurRad="0" rotWithShape="0">
              <a:srgbClr val="808080">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Special and Vulnerable</a:t>
            </a:r>
            <a:endParaRPr b="0" lang="en-US" sz="4400" spc="-1" strike="noStrike">
              <a:solidFill>
                <a:srgbClr val="ffffff"/>
              </a:solidFill>
              <a:latin typeface="Tahoma"/>
            </a:endParaRPr>
          </a:p>
        </p:txBody>
      </p:sp>
      <p:sp>
        <p:nvSpPr>
          <p:cNvPr id="87" name="PlaceHolder 2"/>
          <p:cNvSpPr>
            <a:spLocks noGrp="1"/>
          </p:cNvSpPr>
          <p:nvPr>
            <p:ph type="subTitle"/>
          </p:nvPr>
        </p:nvSpPr>
        <p:spPr>
          <a:xfrm>
            <a:off x="1523880" y="2209320"/>
            <a:ext cx="6400800" cy="4419720"/>
          </a:xfrm>
          <a:prstGeom prst="rect">
            <a:avLst/>
          </a:prstGeom>
          <a:noFill/>
          <a:ln w="0">
            <a:noFill/>
          </a:ln>
          <a:effectLst>
            <a:outerShdw dist="0" dir="0" blurRad="0" rotWithShape="0">
              <a:srgbClr val="808080">
                <a:alpha val="75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25:17Z</dcterms:created>
  <dc:creator>PA Department of Education</dc:creator>
  <dc:description/>
  <dc:language>en-US</dc:language>
  <cp:lastModifiedBy>PA Department of Education</cp:lastModifiedBy>
  <dcterms:modified xsi:type="dcterms:W3CDTF">2009-05-22T18:32:01Z</dcterms:modified>
  <cp:revision>4</cp:revision>
  <dc:subject/>
  <dc:title>First Wave</dc:title>
</cp:coreProperties>
</file>